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0BEF-AEB4-4219-8D91-7A3669A53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8513-C80A-43A3-AD67-51A8D5428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88F6-8C6B-49A5-A685-AB05A1FAD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9914-DE89-43DF-9E99-108A307FE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AC47-0D5B-435D-A2C0-5B63597725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1959-1E88-4F12-82B0-89F982192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7A25-AB20-4AFB-87BA-80981515F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8100-49EF-42E7-897A-99E245E95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9EAD-7AB3-4BE6-8FCB-A09FB599A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EF12-ADE5-4329-ACF6-804532463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812D-2F13-4901-A15B-82B01C801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C376-4BE4-4598-B908-98594707F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3B1F-32E7-4B8F-BE56-73DBFEAFB1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5E2D-BA0B-4C43-84DC-E0B687EE1E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ouble Click to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5312-E861-4215-BBCD-A9FFC5BE6E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113F-27F2-4B24-A57F-79C75CD68F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95DE-1B2C-4692-A1BD-31D5537743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67DF-1246-455E-B912-C3023DFD35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rystal Chilvers</cp:lastModifiedBy>
  <dcterms:modified xsi:type="dcterms:W3CDTF">2011-07-27T12:58:49Z</dcterms:modified>
  <cp:revision>3</cp:revision>
  <dc:subject/>
  <dc:title>&lt;Title&gt;</dc:title>
</cp:coreProperties>
</file>